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234-B9A9-482C-ADE1-6A4F29AF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0C5-9027-41BF-A3FA-86E8F57A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A8B-6EF5-4CBB-AF50-F72D052D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377-F056-49B3-B330-90AD3893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E310-638E-4942-93CC-C4F5FBD7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0423-28F2-4F54-9347-4CFF902A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9226-E61B-4F69-B23B-530A3345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7DAF-B9BC-4F23-A323-8B6714BE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2753-542B-49DB-9A97-88E2EDAB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CDBC-EE92-4CB4-BEE4-7CB37A7D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59BB-E846-402B-9419-A57265F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05D-D165-44BF-9432-F43DAE5D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D432-6366-4B10-8DA3-EF3DA09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5CC2-407F-45BA-928B-B0B3FF88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E5A4-EAE9-4F25-92EB-984D8980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2BB7-0A75-42A0-B98D-3CC92F65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C99D-4979-4047-9DE8-52767202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D797-D7C4-4EED-B0B5-E663F6C5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1FE3-BA50-4188-9AEF-789E56E4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2552-0BD7-4867-874C-96CB2E27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A67B-555F-4425-8AE3-54C24BFB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BEFE-1B23-4857-B5A1-6B5FCB48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C9E-DA1F-4E22-83E5-1EB1E145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D641-BFC4-4AE1-A259-C157F626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DBE2-DB25-4A6F-967C-F5E58E14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1D28-A913-4AE5-BDF0-838D3F86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CEB9-ABBA-44FF-9922-D32B31B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2F90-8633-4291-BE7D-BD270EA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8075-3810-45C4-858E-4EC6B737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28F0-8F87-439B-B965-9F9C86AE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C107-E174-44D4-BADE-87FDEA1F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754F8-8C90-49B7-B345-25DA8596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F9B2-8C3A-470C-8CF1-01EE1C90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D46-2120-43D0-B933-29BCA6E6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F2FA-3929-4705-BE82-C823FED3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DAD0-EC94-47D0-9810-FFDE899D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0A6F6-5D6E-4B96-8D6E-531CC521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53B33-08EE-4C67-82DC-92C27F51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0D63-53A1-4EE0-A7DE-64B10826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1CC4-A199-4D15-A7F4-7DD69E88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A8CF-8CB9-40CC-A655-AF2E4E40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51E5-6C39-4F37-9AF4-E74B2BF7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9AB25-7495-45D6-8519-99C775FF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33063-9EC2-4F38-BBEE-99717733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5E9-B248-490B-A9EF-D3860492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1B6A-0883-4731-9940-6E2A3C92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8BD22-4DE6-4D71-84DB-357382A9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5CB0-CF9B-469C-B4E7-8B0D2DB7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C7103-CE12-4738-B6E9-B3653A50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86777-F746-4583-8079-052B6A3E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29A29-248A-41B3-ABCD-EB42C569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8D86C-87CB-453D-B17E-EC38B40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9EA64-ACF1-4825-9386-D2352E26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9CBEA-631C-4658-9B8C-59FCDFFD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85840-F2B1-4A5F-B63E-719869CD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077-9470-4FF6-A9EB-93CED9CC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35F23-4744-4F75-A538-CC49C23C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1E4-F66D-4039-9FC5-80496968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546-F9FE-442B-8312-A961353A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32C-8168-480C-AE61-4A023B97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9E16-47AA-4D19-87F1-021369B7C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194A-CA7B-465F-9C43-8873DB6D8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60A1-8A26-498C-AF00-0608CB80B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4E01-FD85-46EC-9263-8BE87B74E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3ED5-2B08-4BF2-BC4F-F3476E1C9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4/48/0092_-_Wien_-_Kunsthistorisches_Museum_-_Gaius_Julius_Caesar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en.wikipedia.org/wiki/Image:USA_Great_Seal_Reverse.png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8"/>
          <p:cNvSpPr/>
          <p:nvPr/>
        </p:nvSpPr>
        <p:spPr>
          <a:xfrm>
            <a:off x="0" y="0"/>
            <a:ext cx="9144000" cy="73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3-21 &amp; 22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Finish Latin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93600" y="1066680"/>
            <a:ext cx="9050400" cy="2037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  Use the G.R. 9-1 to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r of the Roman Empire was called a 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What  is the type of government that is ruled by a dicta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state in which people elect their lead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 Pluribus Un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61722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mperor or dic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5" descr="4pix"/>
          <p:cNvPicPr/>
          <p:nvPr/>
        </p:nvPicPr>
        <p:blipFill>
          <a:blip r:embed="rId1"/>
          <a:stretch/>
        </p:blipFill>
        <p:spPr>
          <a:xfrm>
            <a:off x="2938320" y="3333600"/>
            <a:ext cx="3267360" cy="190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5"/>
          <p:cNvSpPr/>
          <p:nvPr/>
        </p:nvSpPr>
        <p:spPr>
          <a:xfrm>
            <a:off x="640080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693432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ctat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7" descr="August1"/>
          <p:cNvPicPr/>
          <p:nvPr/>
        </p:nvPicPr>
        <p:blipFill>
          <a:blip r:embed="rId2"/>
          <a:srcRect l="0" t="0" r="0" b="23912"/>
          <a:stretch/>
        </p:blipFill>
        <p:spPr>
          <a:xfrm>
            <a:off x="0" y="3886200"/>
            <a:ext cx="1752480" cy="297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9" descr="Image:0092 - Wien - Kunsthistorisches Museum - Gaius Julius Caesar.jpg">
            <a:hlinkClick r:id="rId3"/>
          </p:cNvPr>
          <p:cNvPicPr/>
          <p:nvPr/>
        </p:nvPicPr>
        <p:blipFill>
          <a:blip r:embed="rId4"/>
          <a:srcRect l="3778" t="4666" r="9111" b="14000"/>
          <a:stretch/>
        </p:blipFill>
        <p:spPr>
          <a:xfrm>
            <a:off x="7002360" y="3809880"/>
            <a:ext cx="2141640" cy="304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1" descr="RSC_0022"/>
          <p:cNvPicPr/>
          <p:nvPr/>
        </p:nvPicPr>
        <p:blipFill>
          <a:blip r:embed="rId5"/>
          <a:srcRect l="0" t="0" r="49711" b="0"/>
          <a:stretch/>
        </p:blipFill>
        <p:spPr>
          <a:xfrm>
            <a:off x="1981080" y="3886200"/>
            <a:ext cx="211788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2" descr="tx1"/>
          <p:cNvPicPr/>
          <p:nvPr/>
        </p:nvPicPr>
        <p:blipFill>
          <a:blip r:embed="rId6"/>
          <a:stretch/>
        </p:blipFill>
        <p:spPr>
          <a:xfrm>
            <a:off x="4343400" y="3886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3"/>
          <p:cNvSpPr/>
          <p:nvPr/>
        </p:nvSpPr>
        <p:spPr>
          <a:xfrm>
            <a:off x="4402080" y="26938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ut of many,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2590920" y="0"/>
            <a:ext cx="358128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et out a red pen and G.R. 9-1 Red, Green, &amp; Blue map penc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olosseum_outside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236" name="WordArt 3"/>
          <p:cNvSpPr txBox="1"/>
          <p:nvPr/>
        </p:nvSpPr>
        <p:spPr>
          <a:xfrm>
            <a:off x="2971800" y="304920"/>
            <a:ext cx="273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Colosse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reconstruction drawing of Colosseum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olo2_s"/>
          <p:cNvPicPr/>
          <p:nvPr/>
        </p:nvPicPr>
        <p:blipFill>
          <a:blip r:embed="rId1"/>
          <a:stretch/>
        </p:blipFill>
        <p:spPr>
          <a:xfrm>
            <a:off x="228600" y="380880"/>
            <a:ext cx="4038480" cy="4267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oloseum"/>
          <p:cNvPicPr/>
          <p:nvPr/>
        </p:nvPicPr>
        <p:blipFill>
          <a:blip r:embed="rId2"/>
          <a:stretch/>
        </p:blipFill>
        <p:spPr>
          <a:xfrm>
            <a:off x="4343400" y="2666880"/>
            <a:ext cx="480060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roman Coliseum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olosseum_underground"/>
          <p:cNvPicPr/>
          <p:nvPr/>
        </p:nvPicPr>
        <p:blipFill>
          <a:blip r:embed="rId1"/>
          <a:stretch/>
        </p:blipFill>
        <p:spPr>
          <a:xfrm>
            <a:off x="1523880" y="1380960"/>
            <a:ext cx="609624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id_aj1301_b"/>
          <p:cNvPicPr/>
          <p:nvPr/>
        </p:nvPicPr>
        <p:blipFill>
          <a:blip r:embed="rId1"/>
          <a:stretch/>
        </p:blipFill>
        <p:spPr>
          <a:xfrm>
            <a:off x="361800" y="561960"/>
            <a:ext cx="8420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id_aj1303_b"/>
          <p:cNvPicPr/>
          <p:nvPr/>
        </p:nvPicPr>
        <p:blipFill>
          <a:blip r:embed="rId1"/>
          <a:stretch/>
        </p:blipFill>
        <p:spPr>
          <a:xfrm>
            <a:off x="361800" y="561960"/>
            <a:ext cx="8420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dollar"/>
          <p:cNvPicPr/>
          <p:nvPr/>
        </p:nvPicPr>
        <p:blipFill>
          <a:blip r:embed="rId1"/>
          <a:stretch/>
        </p:blipFill>
        <p:spPr>
          <a:xfrm>
            <a:off x="5553000" y="3295800"/>
            <a:ext cx="3591000" cy="3562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457200" y="4114800"/>
            <a:ext cx="4572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ng NOVUS ORDO SECLO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: new, young, no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: row, series,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lo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: of the ages, of the generations, of the centu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ccurate transl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vus Ordo Seclo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Order of the 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Reverse side of the Great Seal of the United Stat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04920"/>
            <a:ext cx="2590560" cy="25146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304920" y="0"/>
            <a:ext cx="434340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ng ANNUIT COEPT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u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to nod assent, to favor, to smile upon.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ept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undertakings, endeavors, beginn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uit coept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"favors (lit., gives the nod to) undertakings." The subject must be supplied. Who favors? The Eye (Providence) do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nce favors our undertak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or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nce has favored our undertak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"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4724280" y="13716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4800600" y="49528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19560" y="9903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word do we us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362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019920" y="20574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, anniver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4724280" y="0"/>
            <a:ext cx="175284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0" y="0"/>
            <a:ext cx="464832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 infinit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lessly,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ed, er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m, 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itter, twink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mposition, a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v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,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4952880" y="838080"/>
            <a:ext cx="419112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ve,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724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6477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800600" y="380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n                    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reat Builders of Ol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ivilization is so identified with constructing and building things than the Roma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queducts, roads, baths, walls, theatres, temples, arches, cities, palaces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built a world from which later peoples still benefitted for a long time to com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of their old roads are even still in use today. So too, some of their great amphitheatre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ttp://rome.mrdonn.org/rome04.gif"/>
          <p:cNvPicPr/>
          <p:nvPr/>
        </p:nvPicPr>
        <p:blipFill>
          <a:blip r:embed="rId1"/>
          <a:stretch/>
        </p:blipFill>
        <p:spPr>
          <a:xfrm>
            <a:off x="0" y="0"/>
            <a:ext cx="4191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pantheon_s"/>
          <p:cNvPicPr/>
          <p:nvPr/>
        </p:nvPicPr>
        <p:blipFill>
          <a:blip r:embed="rId1"/>
          <a:srcRect l="0" t="6124" r="0" b="0"/>
          <a:stretch/>
        </p:blipFill>
        <p:spPr>
          <a:xfrm>
            <a:off x="0" y="0"/>
            <a:ext cx="5029200" cy="3505320"/>
          </a:xfrm>
          <a:prstGeom prst="rect">
            <a:avLst/>
          </a:prstGeom>
          <a:ln w="0">
            <a:noFill/>
          </a:ln>
        </p:spPr>
      </p:pic>
      <p:sp>
        <p:nvSpPr>
          <p:cNvPr id="221" name="WordArt 7"/>
          <p:cNvSpPr txBox="1"/>
          <p:nvPr/>
        </p:nvSpPr>
        <p:spPr>
          <a:xfrm>
            <a:off x="914400" y="4419720"/>
            <a:ext cx="236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nthe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2" name="Picture 9" descr="model_Pantheon_model"/>
          <p:cNvPicPr/>
          <p:nvPr/>
        </p:nvPicPr>
        <p:blipFill>
          <a:blip r:embed="rId2"/>
          <a:stretch/>
        </p:blipFill>
        <p:spPr>
          <a:xfrm>
            <a:off x="4038480" y="3490920"/>
            <a:ext cx="51055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Pantheon_Dome"/>
          <p:cNvPicPr/>
          <p:nvPr/>
        </p:nvPicPr>
        <p:blipFill>
          <a:blip r:embed="rId1"/>
          <a:stretch/>
        </p:blipFill>
        <p:spPr>
          <a:xfrm>
            <a:off x="228600" y="380880"/>
            <a:ext cx="4191120" cy="3090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pcd03-10"/>
          <p:cNvPicPr/>
          <p:nvPr/>
        </p:nvPicPr>
        <p:blipFill>
          <a:blip r:embed="rId2"/>
          <a:stretch/>
        </p:blipFill>
        <p:spPr>
          <a:xfrm>
            <a:off x="4724280" y="380880"/>
            <a:ext cx="4038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rches of an aqueduct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257720"/>
          </a:xfrm>
          <a:prstGeom prst="rect">
            <a:avLst/>
          </a:prstGeom>
          <a:ln w="0">
            <a:noFill/>
          </a:ln>
        </p:spPr>
      </p:pic>
      <p:sp>
        <p:nvSpPr>
          <p:cNvPr id="226" name="WordArt 5"/>
          <p:cNvSpPr txBox="1"/>
          <p:nvPr/>
        </p:nvSpPr>
        <p:spPr>
          <a:xfrm>
            <a:off x="2895480" y="838080"/>
            <a:ext cx="2638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quedu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archcon10"/>
          <p:cNvPicPr/>
          <p:nvPr/>
        </p:nvPicPr>
        <p:blipFill>
          <a:blip r:embed="rId1"/>
          <a:srcRect l="0" t="11447" r="0" b="0"/>
          <a:stretch/>
        </p:blipFill>
        <p:spPr>
          <a:xfrm>
            <a:off x="685800" y="5335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228" name="WordArt 7"/>
          <p:cNvSpPr txBox="1"/>
          <p:nvPr/>
        </p:nvSpPr>
        <p:spPr>
          <a:xfrm>
            <a:off x="2057400" y="5638680"/>
            <a:ext cx="4724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antine's 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keystn1"/>
          <p:cNvPicPr/>
          <p:nvPr/>
        </p:nvPicPr>
        <p:blipFill>
          <a:blip r:embed="rId1"/>
          <a:stretch/>
        </p:blipFill>
        <p:spPr>
          <a:xfrm>
            <a:off x="1905120" y="228600"/>
            <a:ext cx="5486400" cy="51339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914400" y="5715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st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most important stone in an arch bridge, without this stone the arch would collapse. The keystone holds the arch toge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keystone"/>
          <p:cNvPicPr/>
          <p:nvPr/>
        </p:nvPicPr>
        <p:blipFill>
          <a:blip r:embed="rId1"/>
          <a:stretch/>
        </p:blipFill>
        <p:spPr>
          <a:xfrm>
            <a:off x="685800" y="68580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990720" y="54864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n arch can be built a wooden frame is built. This allows the stones to be put in position. The frame is removed after the stones are in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KeystoneBoss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1055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3">
            <a:hlinkClick r:id="" action="ppaction://hlinkshowjump?jump=firstslide"/>
          </p:cNvPr>
          <p:cNvSpPr/>
          <p:nvPr/>
        </p:nvSpPr>
        <p:spPr>
          <a:xfrm>
            <a:off x="4191120" y="5638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  <a:path fill="darken" w="21600" h="25926">
                <a:moveTo>
                  <a:pt x="10800" y="6000"/>
                </a:moveTo>
                <a:lnTo>
                  <a:pt x="13376" y="8611"/>
                </a:lnTo>
                <a:lnTo>
                  <a:pt x="13376" y="6870"/>
                </a:lnTo>
                <a:lnTo>
                  <a:pt x="15152" y="6870"/>
                </a:lnTo>
                <a:lnTo>
                  <a:pt x="15152" y="10387"/>
                </a:lnTo>
                <a:lnTo>
                  <a:pt x="17763" y="12963"/>
                </a:lnTo>
                <a:lnTo>
                  <a:pt x="16109" y="12963"/>
                </a:lnTo>
                <a:lnTo>
                  <a:pt x="16109" y="20152"/>
                </a:lnTo>
                <a:lnTo>
                  <a:pt x="5491" y="20152"/>
                </a:lnTo>
                <a:lnTo>
                  <a:pt x="5491" y="12963"/>
                </a:lnTo>
                <a:lnTo>
                  <a:pt x="3837" y="12963"/>
                </a:lnTo>
                <a:close/>
              </a:path>
              <a:path fill="darkenLess" w="21600" h="25926">
                <a:moveTo>
                  <a:pt x="13376" y="8611"/>
                </a:moveTo>
                <a:lnTo>
                  <a:pt x="13376" y="6870"/>
                </a:lnTo>
                <a:lnTo>
                  <a:pt x="15152" y="6870"/>
                </a:lnTo>
                <a:lnTo>
                  <a:pt x="15152" y="10387"/>
                </a:lnTo>
                <a:close/>
              </a:path>
              <a:path fill="darkenLess" w="21600" h="25926">
                <a:moveTo>
                  <a:pt x="9877" y="16462"/>
                </a:moveTo>
                <a:lnTo>
                  <a:pt x="11723" y="16462"/>
                </a:lnTo>
                <a:lnTo>
                  <a:pt x="11723" y="20152"/>
                </a:lnTo>
                <a:lnTo>
                  <a:pt x="16109" y="20152"/>
                </a:lnTo>
                <a:lnTo>
                  <a:pt x="16109" y="12963"/>
                </a:lnTo>
                <a:lnTo>
                  <a:pt x="5491" y="12963"/>
                </a:lnTo>
                <a:lnTo>
                  <a:pt x="5491" y="20152"/>
                </a:lnTo>
                <a:lnTo>
                  <a:pt x="9877" y="2015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3:03:49Z</dcterms:created>
  <dc:creator>poweruser</dc:creator>
  <dc:description/>
  <dc:language>en-US</dc:language>
  <cp:lastModifiedBy>poweruser</cp:lastModifiedBy>
  <dcterms:modified xsi:type="dcterms:W3CDTF">2012-03-22T12:39:45Z</dcterms:modified>
  <cp:revision>36</cp:revision>
  <dc:subject/>
  <dc:title>Slide 1</dc:title>
</cp:coreProperties>
</file>